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BE2-56A7-49D0-8AB0-98071733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F7A-50F8-4032-AAF7-CF216849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2AE-0979-40D6-A12E-F7DEA94F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6B1-1084-45B9-8301-DC55917D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2E7-0083-4A9D-91A6-CC9486B1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144-43C5-4EC7-AF22-E48CEC0E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91D-859B-4137-873F-DD31F9AC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DF4-BD60-4474-BDE4-BB762A9C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6A2-F3BF-4D5F-A697-B4E64FC8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7A0-DD43-4ED6-8DAC-1205721B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18B-CAF5-4326-8D04-EB05E83C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34E-2A54-47A2-BFAB-CF045B3D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9114-6E54-4160-80A4-0BDCEDFCA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Amerikan Doğayı Koruma kuruluşlarının araştırmalarına göre dünyada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sti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k torba kullanım adedi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yılda yaklaşık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00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 m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l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n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ile 1 trilyon adet arası değişmektedi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36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Geographic News September 2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nun içindir ki,Kuzey kutbund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tzberge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yakınlarınd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güneyd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kland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alarına kadar geniş bir çevrede, denizde yüzeyinde sık sık plastik torbalara rastlan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724280" cy="3335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British Antarctic Surv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pollution.jpg"/>
          <p:cNvPicPr/>
          <p:nvPr/>
        </p:nvPicPr>
        <p:blipFill>
          <a:blip r:embed="rId1"/>
          <a:stretch/>
        </p:blipFill>
        <p:spPr>
          <a:xfrm>
            <a:off x="1752480" y="2133720"/>
            <a:ext cx="5562720" cy="4171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Plastik torbalar, Amerikan sahillerinden toplanan atıkların %10’unu teşkil etmekted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National Marine Debris Monitoring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şık, plastik torbalarda kimyasal çözümlemelere neden olur.  </a:t>
            </a:r>
            <a:br>
              <a:rPr sz="3200"/>
            </a:b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Zaman içinde daha küçük ancak daha zehirli petro-polimerlere bölünürle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1148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522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Ve... bunlar da topraklarımızı ve sularımızı zehirl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553080" cy="446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324480" cy="4749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Sonuçta, bu mikroskopik partiküller besin zincirine gir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153640" cy="5427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şte o zaman doğal hayatın geleceği enikonu tehliked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522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alina, yunus, fok, deniz kaplumbağalarından başlayarak yaklaşı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00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deniz canlısı, plastik torbalar nedeni ile hayatını kaybe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025880" cy="3797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The minke whale carcase at Scalloway marina on Monday morning. Photo: Jim Nicolson"/>
          <p:cNvPicPr/>
          <p:nvPr/>
        </p:nvPicPr>
        <p:blipFill>
          <a:blip r:embed="rId2"/>
          <a:stretch/>
        </p:blipFill>
        <p:spPr>
          <a:xfrm>
            <a:off x="457200" y="297180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2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2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2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70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244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1522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Kuşlar boğulu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100760" cy="5639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3879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610480" cy="4836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Besin sanarak yuttukları plastiği hazmedemeyen kaplumbağalar ölü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orld Wildlife Fund Repo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torbaların geri dönüştürülen miktarı ancak %1dir. Bir torbanın geri kazanımı, yenisini üretmekten kat kat pahal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609588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Christian Science Monitor News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Öyleys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236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Çözüm???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ez torba kullanmak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3200"/>
            </a:b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ftada 6 plastik torbayı kullanımdan çıkartmış oluru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Bu da ayda 24 torb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Yılda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88 </a:t>
            </a: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torb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Ortalama bir yaşam süresinc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de,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2,176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torba e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639040" cy="4151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22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lkemizde her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tr-TR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kişiden sade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tr-TR" sz="3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 bunu yapsa, yaşamımız süresince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31.046.400.000 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lastik torba kullanımdan kalkmış ol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ngladesh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plastik torba kullanımını yasaklamışt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MSNBC.com March 8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771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Çin, kullanımını paralı yapmıştı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asia January 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191120" cy="28479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r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landa, Avrupa’da bir ilk olara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2002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’de plastik torbaları vergilendirdi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Bugüne kadar plastik torba kullanımında %90 azalma kaydedildi.</a:t>
            </a: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BBC News August 20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25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005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’t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Rwanda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plastik torba kullanımını yasaklad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ssociated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000"/>
                            </p:stCondLst>
                            <p:childTnLst>
                              <p:par>
                                <p:cTn id="5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Geri dönüşüm projelerinc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 ton plasti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torbanın işlenme ve dönüşümü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4,000 $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’a mal olurken, bunların bilahare yeni olarak marketlere satışı sadec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32 $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1920" y="4572000"/>
            <a:ext cx="808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Jared Blumenfel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Director of San Francisco's Department of the Environ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330720" cy="3505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da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atı Hindist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Botswana, Kenya, Tanzania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Gün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fr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, Taiwan,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inga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se, yasaklandı ya da yasaklanma yolunda adımlar atıld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PlanetSave.com February 16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3200400"/>
            <a:ext cx="3084480" cy="3657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7 Mar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2007, San Francisco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Amerika’da plastik torba kullanımını ilk yasaklayan şehir old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640080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NPR.org (National Public Ra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akland 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ve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oston</a:t>
            </a:r>
            <a:r>
              <a:rPr b="0" lang="tr-TR" sz="4000" spc="-1" strike="noStrike">
                <a:solidFill>
                  <a:srgbClr val="ffffff"/>
                </a:solidFill>
                <a:latin typeface="Tahoma"/>
              </a:rPr>
              <a:t> yasaklama yolundal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The Boston Globe May 20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sti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alışveriş torbaları, petrol türevi bir termoplastik olan polietilen mamulüdü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0"/>
                            </p:stCondLst>
                            <p:childTnLst>
                              <p:par>
                                <p:cTn id="6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3086280" cy="3200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Dolayısile plastik torba kullanımındaki azalma, bir ülkenin dışa olan bağımlılığında da bir azalma demektir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87692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930240"/>
            <a:ext cx="5943600" cy="592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in, sadece torbaları paralı yapmakla, her yıl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7 mil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y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fıçı petrol tasarruf edece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asia January 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00360" y="1704960"/>
            <a:ext cx="3732120" cy="4971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Demek ki...bir şeyler yapmak mümkün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440" y="3246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Öyleyse, bunca torba nereye gidiyor?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952880" cy="371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04920"/>
            <a:ext cx="8381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75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teki bir araştırmaya gö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okyanuslarda dolaşan gemiler yılda yaklaşık 3.700.000kg. plastik torbayı denizlere boşaltırlar.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Dünya yüzeyi henüz bir plastik çöplüğüne dönmemişse, bunun nedeni denizlerin dibinin çöplük olarak kullanılmas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U.S. National Academy of Sci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4378320" cy="5257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33720" y="571500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Doğaya bırakılan torbaları rüzgar uçurarak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95280" y="594360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En ücra noktalara kadar ulaştır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29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Tahoma"/>
              </a:rPr>
              <a:t>Izgaralardan sızarak kanalizasyon yolu il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CNN.com/tecnhology November 1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8080" y="6019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tr-TR" sz="3600" spc="-1" strike="noStrike">
                <a:solidFill>
                  <a:srgbClr val="ffffff"/>
                </a:solidFill>
                <a:latin typeface="Tahoma"/>
              </a:rPr>
              <a:t>deniz, göl ve nehirlere varır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00:08Z</dcterms:created>
  <dc:creator>hP</dc:creator>
  <dc:description/>
  <cp:keywords/>
  <dc:language>en-US</dc:language>
  <cp:lastModifiedBy>hP</cp:lastModifiedBy>
  <dcterms:modified xsi:type="dcterms:W3CDTF">2008-06-03T13:11:46Z</dcterms:modified>
  <cp:revision>2</cp:revision>
  <dc:subject/>
  <dc:title>Amerikan Doğayı Koruma kuruluşlarının araştırmalarına göre dünyada plastik torba kullanım adedi yılda yaklaşık 500 milyon ile 1 trilyon adet arası değişmektedir.  National Geographic News September 2, 2003</dc:title>
</cp:coreProperties>
</file>